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634-3506-41CA-A35E-FE6CD78D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313-A274-46CA-8BF8-2181F75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6D3-372B-4BC8-A4A8-52A46593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675-A2ED-4985-9092-06600B8E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171-E5D5-4C22-9BB2-04964D00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9D6-C1E5-4AFB-8C22-58EC8EEF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EFF-9EC5-4D52-B906-61C04D31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963-C471-4C58-A021-C6EE9FE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38D-A0C9-49B4-B6AF-96FB28DC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25C-2B87-4D99-AE0A-6B39FC0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78C-F556-4277-AB75-0501B7F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DF2-AE0F-40D3-B8EE-FA14122F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8DB-780C-432B-A5DA-C64F861F6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4760" y="450720"/>
            <a:ext cx="814212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Vocabulary St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34760" y="2054160"/>
            <a:ext cx="814212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0e04"/>
                </a:solidFill>
                <a:latin typeface="Arial"/>
              </a:rPr>
              <a:t>Chapter 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650960" y="2362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5689440" y="2971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007e39"/>
                </a:solidFill>
                <a:latin typeface="Arial"/>
              </a:rPr>
              <a:t>exempl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638360" y="1743120"/>
            <a:ext cx="397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exemplif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Ex.em.pli.f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Ver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ati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mcdx62\AppData\Local\Microsoft\Windows\Temporary Internet Files\Content.IE5\K4XAEV0X\MC900287626[1].wmf"/>
          <p:cNvPicPr/>
          <p:nvPr/>
        </p:nvPicPr>
        <p:blipFill>
          <a:blip r:embed="rId3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17440" y="1523880"/>
            <a:ext cx="861084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show or demonstrate by example, to furnish or serve as an exam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17440" y="4800600"/>
            <a:ext cx="8529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ves of great reformers, such as Martin Luther King Jr. or Ghandi, </a:t>
            </a:r>
            <a:r>
              <a:rPr b="0" lang="en-US" sz="4000" spc="-1" strike="noStrike">
                <a:solidFill>
                  <a:srgbClr val="007e39"/>
                </a:solidFill>
                <a:latin typeface="Arial"/>
              </a:rPr>
              <a:t>exemplif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eatnes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638360" y="1743120"/>
            <a:ext cx="39751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exemplif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o be an example of, to show or to illustrat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exemplify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60240" y="3048120"/>
            <a:ext cx="243864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o be an example  of, to show or illustrat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994360" y="12193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mcdx62\AppData\Local\Microsoft\Windows\Temporary Internet Files\Content.IE5\K4XAEV0X\MC900287626[1].wmf"/>
          <p:cNvPicPr/>
          <p:nvPr/>
        </p:nvPicPr>
        <p:blipFill>
          <a:blip r:embed="rId2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mcdx62\AppData\Local\Microsoft\Windows\Temporary Internet Files\Content.IE5\FK6ZMFIW\MP900422148[1].jpg"/>
          <p:cNvPicPr/>
          <p:nvPr/>
        </p:nvPicPr>
        <p:blipFill>
          <a:blip r:embed="rId3"/>
          <a:stretch/>
        </p:blipFill>
        <p:spPr>
          <a:xfrm>
            <a:off x="3098880" y="2971800"/>
            <a:ext cx="310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17520" y="2382840"/>
            <a:ext cx="84852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Local restaurants show much diversity and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exemplify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the many cultures of the t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The man’s torn clothing and old car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exemplify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his great weal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mcdx62\AppData\Local\Microsoft\Windows\Temporary Internet Files\Content.IE5\FK6ZMFIW\MC900304491[1].wmf"/>
          <p:cNvPicPr/>
          <p:nvPr/>
        </p:nvPicPr>
        <p:blipFill>
          <a:blip r:embed="rId1"/>
          <a:stretch/>
        </p:blipFill>
        <p:spPr>
          <a:xfrm>
            <a:off x="2031840" y="3124080"/>
            <a:ext cx="3038760" cy="334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613480" y="3581280"/>
            <a:ext cx="38908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mcdx62\AppData\Local\Microsoft\Windows\Temporary Internet Files\Content.IE5\FK6ZMFIW\MC900304491[1].wmf"/>
          <p:cNvPicPr/>
          <p:nvPr/>
        </p:nvPicPr>
        <p:blipFill>
          <a:blip r:embed="rId2"/>
          <a:stretch/>
        </p:blipFill>
        <p:spPr>
          <a:xfrm>
            <a:off x="6603840" y="609480"/>
            <a:ext cx="30387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C:\Users\mcdx62\AppData\Local\Microsoft\Windows\Temporary Internet Files\Content.IE5\FK6ZMFIW\MC900020003[1].wmf"/>
          <p:cNvPicPr/>
          <p:nvPr/>
        </p:nvPicPr>
        <p:blipFill>
          <a:blip r:embed="rId2"/>
          <a:stretch/>
        </p:blipFill>
        <p:spPr>
          <a:xfrm>
            <a:off x="6222960" y="2514600"/>
            <a:ext cx="3235320" cy="346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mcdx62\AppData\Local\Microsoft\Windows\Temporary Internet Files\Content.IE5\K4XAEV0X\MC900334330[1].wmf"/>
          <p:cNvPicPr/>
          <p:nvPr/>
        </p:nvPicPr>
        <p:blipFill>
          <a:blip r:embed="rId3"/>
          <a:stretch/>
        </p:blipFill>
        <p:spPr>
          <a:xfrm>
            <a:off x="2184480" y="3048120"/>
            <a:ext cx="351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ttribu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38360" y="1743120"/>
            <a:ext cx="397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.tri.b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noun, Lati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:\Users\mcdx62\AppData\Local\Microsoft\Windows\Temporary Internet Files\Content.IE5\FK6ZMFIW\MC900304491[1].wmf"/>
          <p:cNvPicPr/>
          <p:nvPr/>
        </p:nvPicPr>
        <p:blipFill>
          <a:blip r:embed="rId1"/>
          <a:stretch/>
        </p:blipFill>
        <p:spPr>
          <a:xfrm>
            <a:off x="6527880" y="1371600"/>
            <a:ext cx="303840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93760" y="1295280"/>
            <a:ext cx="861048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quality belonging to a person, thing or group,  a characteristic, or prop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041480" y="5181480"/>
            <a:ext cx="85294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lness and great basketball skill are tw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ribu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Koby Bria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638360" y="1743120"/>
            <a:ext cx="39751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quality or feature of a person or th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C:\Users\mcdx62\AppData\Local\Microsoft\Windows\Temporary Internet Files\Content.IE5\FK6ZMFIW\MC900304491[1].wmf"/>
          <p:cNvPicPr/>
          <p:nvPr/>
        </p:nvPicPr>
        <p:blipFill>
          <a:blip r:embed="rId1"/>
          <a:stretch/>
        </p:blipFill>
        <p:spPr>
          <a:xfrm>
            <a:off x="6527880" y="1371600"/>
            <a:ext cx="3038400" cy="334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60240" y="3048120"/>
            <a:ext cx="243864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quality or feature of a person or th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C:\Users\mcdx62\AppData\Local\Microsoft\Windows\Temporary Internet Files\Content.IE5\K4XAEV0X\MC900287626[1].wmf"/>
          <p:cNvPicPr/>
          <p:nvPr/>
        </p:nvPicPr>
        <p:blipFill>
          <a:blip r:embed="rId1"/>
          <a:stretch/>
        </p:blipFill>
        <p:spPr>
          <a:xfrm>
            <a:off x="6527880" y="4572000"/>
            <a:ext cx="307800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Users\mcdx62\AppData\Local\Microsoft\Windows\Temporary Internet Files\Content.IE5\FK6ZMFIW\MC900304491[1].wmf"/>
          <p:cNvPicPr/>
          <p:nvPr/>
        </p:nvPicPr>
        <p:blipFill>
          <a:blip r:embed="rId2"/>
          <a:stretch/>
        </p:blipFill>
        <p:spPr>
          <a:xfrm>
            <a:off x="6527880" y="1371600"/>
            <a:ext cx="3038400" cy="334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146640" y="4343400"/>
            <a:ext cx="376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217520" y="2382840"/>
            <a:ext cx="848520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On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tribute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of a teacher is to have little knowledge of how to exemplify learning new informatio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Modern cars have many new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tributes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, such as better gas mile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8320" y="380880"/>
            <a:ext cx="8243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Hmmmmmmmm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1041480" y="2057400"/>
            <a:ext cx="3762360" cy="35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5537160" y="2666880"/>
            <a:ext cx="425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nig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638360" y="1743120"/>
            <a:ext cx="3975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.nig.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Noun, Lati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17440" y="1523880"/>
            <a:ext cx="86108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puzzling or inexplicable occurrence or situation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17440" y="4800600"/>
            <a:ext cx="8529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xplorer’s disappearance is a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at has caused much specul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Think-Pair-Sh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8000"/>
                </a:solidFill>
                <a:latin typeface="Arial"/>
              </a:rPr>
              <a:t>Thin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pictur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see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you think it means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 these have in common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re a relationship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299280" y="1143000"/>
            <a:ext cx="351000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638360" y="1743120"/>
            <a:ext cx="397512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mystery or a puzzle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Users\mcdx62\AppData\Local\Microsoft\Windows\Temporary Internet Files\Content.IE5\W7WWR0VY\MC900334296[1].wmf"/>
          <p:cNvPicPr/>
          <p:nvPr/>
        </p:nvPicPr>
        <p:blipFill>
          <a:blip r:embed="rId1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mcdx62\AppData\Local\Microsoft\Windows\Temporary Internet Files\Content.IE5\FK6ZMFIW\MC900078811[1].wmf"/>
          <p:cNvPicPr/>
          <p:nvPr/>
        </p:nvPicPr>
        <p:blipFill>
          <a:blip r:embed="rId2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enigm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60240" y="3048120"/>
            <a:ext cx="2438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mystery or a puzzle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:\Users\mcdx62\AppData\Local\Microsoft\Windows\Temporary Internet Files\Content.IE5\FK6ZMFIW\MC900078811[1].wmf"/>
          <p:cNvPicPr/>
          <p:nvPr/>
        </p:nvPicPr>
        <p:blipFill>
          <a:blip r:embed="rId1"/>
          <a:stretch/>
        </p:blipFill>
        <p:spPr>
          <a:xfrm>
            <a:off x="6451560" y="16002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mcdx62\AppData\Local\Microsoft\Windows\Temporary Internet Files\Content.IE5\W7WWR0VY\MC900334296[1].wmf"/>
          <p:cNvPicPr/>
          <p:nvPr/>
        </p:nvPicPr>
        <p:blipFill>
          <a:blip r:embed="rId2"/>
          <a:stretch/>
        </p:blipFill>
        <p:spPr>
          <a:xfrm>
            <a:off x="6146640" y="4572000"/>
            <a:ext cx="2971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217520" y="2382840"/>
            <a:ext cx="848520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How the robber got into the house was a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to the pol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The math problem was a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igma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and was so easy for students to solv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34760" y="450720"/>
            <a:ext cx="814212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Vocabulary Stor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634760" y="2054160"/>
            <a:ext cx="814212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0e04"/>
                </a:solidFill>
                <a:latin typeface="Arial"/>
              </a:rPr>
              <a:t>Day 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The word is: </a:t>
            </a:r>
            <a:r>
              <a:rPr b="0" lang="en-US" sz="4800" spc="-1" strike="noStrike">
                <a:solidFill>
                  <a:srgbClr val="007e39"/>
                </a:solidFill>
                <a:latin typeface="Arial"/>
              </a:rPr>
              <a:t>disce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38360" y="1743120"/>
            <a:ext cx="3975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28560" indent="-51408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oral rep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074c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Let’s writ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b050"/>
                </a:solidFill>
                <a:latin typeface="Arial"/>
              </a:rPr>
              <a:t>discern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syllables on the Vocabulary Acquisition p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51408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Dis.c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Add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Ver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ati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299280" y="1143000"/>
            <a:ext cx="35100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03240" y="755640"/>
            <a:ext cx="79441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05a7"/>
                </a:solidFill>
                <a:latin typeface="Arial"/>
              </a:rPr>
              <a:t>DENOT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70080" y="1371600"/>
            <a:ext cx="86104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74c1f"/>
                </a:solidFill>
                <a:latin typeface="Arial"/>
              </a:rPr>
              <a:t>rea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or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distinguish mentally; to recognize as distinct or differen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7440" y="4800600"/>
            <a:ext cx="85298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ord in contex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perienced jeweler can easily discern whether a diamond is genuine or f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247760" y="1254240"/>
            <a:ext cx="84344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Based on the pictures and the “denotative” definition,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5300" spc="-1" strike="noStrike">
                <a:solidFill>
                  <a:srgbClr val="0a05a7"/>
                </a:solidFill>
                <a:latin typeface="Arial"/>
              </a:rPr>
              <a:t>friendly definition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ith your group (in other words, </a:t>
            </a:r>
            <a:r>
              <a:rPr b="1" lang="en-US" sz="5300" spc="-1" strike="noStrike">
                <a:solidFill>
                  <a:srgbClr val="074c1f"/>
                </a:solidFill>
                <a:latin typeface="Arial"/>
              </a:rPr>
              <a:t>put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the definition into your own words.)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Friendly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638360" y="1743120"/>
            <a:ext cx="39751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n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o see clearly, to recognize, to detect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74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74c1f"/>
                </a:solidFill>
                <a:latin typeface="Arial"/>
              </a:rPr>
              <a:t>Write </a:t>
            </a:r>
            <a:r>
              <a:rPr b="1" lang="en-US" sz="3100" spc="-1" strike="noStrike">
                <a:solidFill>
                  <a:srgbClr val="aa8a14"/>
                </a:solidFill>
                <a:latin typeface="Arial"/>
              </a:rPr>
              <a:t>the friendly defini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n you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ocabulary Acquisition Shee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070680" y="1371600"/>
            <a:ext cx="351000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8360" y="355320"/>
            <a:ext cx="82440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Arial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38360" y="1743120"/>
            <a:ext cx="39751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31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ok like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38360" y="4778280"/>
            <a:ext cx="20700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see clearly, to recognize, to detec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C:\Users\mcdx62\AppData\Local\Microsoft\Windows\Temporary Internet Files\Content.IE5\K4XAEV0X\MC900334330[1].wmf"/>
          <p:cNvPicPr/>
          <p:nvPr/>
        </p:nvPicPr>
        <p:blipFill>
          <a:blip r:embed="rId2"/>
          <a:stretch/>
        </p:blipFill>
        <p:spPr>
          <a:xfrm>
            <a:off x="6070680" y="1371600"/>
            <a:ext cx="351000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mcdx62\AppData\Local\Microsoft\Windows\Temporary Internet Files\Content.IE5\FK6ZMFIW\MC900020003[1].wmf"/>
          <p:cNvPicPr/>
          <p:nvPr/>
        </p:nvPicPr>
        <p:blipFill>
          <a:blip r:embed="rId3"/>
          <a:stretch/>
        </p:blipFill>
        <p:spPr>
          <a:xfrm>
            <a:off x="6375240" y="3886200"/>
            <a:ext cx="3235320" cy="346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3556080" y="3124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217520" y="324000"/>
            <a:ext cx="8485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heck to see if you understand the w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17720" y="1603440"/>
            <a:ext cx="5384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Arial"/>
              </a:rPr>
              <a:t>THUMBS UP/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217520" y="2382840"/>
            <a:ext cx="84852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Sue’s hair extension looked so real that it was difficult to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which parts were her real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a05a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The black car was so shiny and clean that it was difficult to </a:t>
            </a:r>
            <a:r>
              <a:rPr b="0" lang="en-US" sz="3600" spc="-1" strike="noStrike">
                <a:solidFill>
                  <a:srgbClr val="007e39"/>
                </a:solidFill>
                <a:latin typeface="Arial"/>
              </a:rPr>
              <a:t>discern</a:t>
            </a:r>
            <a:r>
              <a:rPr b="0" lang="en-US" sz="3600" spc="-1" strike="noStrike">
                <a:solidFill>
                  <a:srgbClr val="0a05a7"/>
                </a:solidFill>
                <a:latin typeface="Arial"/>
              </a:rPr>
              <a:t> the large streak of dust down the s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cdx62</cp:lastModifiedBy>
  <dcterms:modified xsi:type="dcterms:W3CDTF">2012-02-28T06:35:14Z</dcterms:modified>
  <cp:revision>24</cp:revision>
  <dc:subject/>
  <dc:title>PowerPoint Presentation</dc:title>
</cp:coreProperties>
</file>